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502-FB95-4197-8430-9227A22F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78D-1839-4A04-A891-23A7B6E6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74A-C6D5-457B-8842-416DBED6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9C8-44C6-4C32-B805-048C0114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CEA-CE1F-499D-A324-A9097C6B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C97-CAB9-4102-AEE7-E6EEF008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A02-917C-472F-A2E2-6DD4B8FB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8B9-204D-4B10-82C1-10D072B5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886-4587-4224-BBAC-14140312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E2B-0A04-49F9-ABA2-89327AE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BB7-FE1B-488C-87C2-892F0A00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EB5-805A-44EB-90A3-2170AC6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D45-0E2D-4F4C-8FF8-26E2575F1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- Completa con la forma correcta del verbo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___ abogad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law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 español y mi madre ___ norteamer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hermano y yo __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padres también 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 al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 flaco, pero mi hermano ____ go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dos hermanas ____ enfermera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nurses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; ellas ______ muy 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________ tú? ¿________ alto o bajo, flaco o go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i amigo. Tú ______ peruano, yo ______ norteameri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b050"/>
                </a:solidFill>
                <a:latin typeface="Arial"/>
              </a:rPr>
              <a:t>L.O: to recall last years work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9/25/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sociable o tímid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alto/a o baj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franceses o norteameric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ricos o pob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sted una persona alegre o tri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: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un 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76320" y="2544840"/>
            <a:ext cx="1447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c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371600" y="236232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leg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962520" y="1143000"/>
            <a:ext cx="1171440" cy="1676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2971800" y="266688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rofesor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971800" y="304812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aestro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4"/>
          <a:stretch/>
        </p:blipFill>
        <p:spPr>
          <a:xfrm>
            <a:off x="5567400" y="1098720"/>
            <a:ext cx="1824120" cy="1415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5638680" y="2438280"/>
            <a:ext cx="17528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lum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486400" y="2895480"/>
            <a:ext cx="21337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tudi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>
            <a:off x="228600" y="3581280"/>
            <a:ext cx="2109960" cy="107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7543800" y="262080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"/>
          <p:cNvPicPr/>
          <p:nvPr/>
        </p:nvPicPr>
        <p:blipFill>
          <a:blip r:embed="rId6"/>
          <a:stretch/>
        </p:blipFill>
        <p:spPr>
          <a:xfrm>
            <a:off x="2743200" y="3657600"/>
            <a:ext cx="1301760" cy="167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"/>
          <p:cNvPicPr/>
          <p:nvPr/>
        </p:nvPicPr>
        <p:blipFill>
          <a:blip r:embed="rId7"/>
          <a:stretch/>
        </p:blipFill>
        <p:spPr>
          <a:xfrm>
            <a:off x="7772400" y="914400"/>
            <a:ext cx="109368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"/>
          <p:cNvPicPr/>
          <p:nvPr/>
        </p:nvPicPr>
        <p:blipFill>
          <a:blip r:embed="rId8"/>
          <a:stretch/>
        </p:blipFill>
        <p:spPr>
          <a:xfrm>
            <a:off x="5867280" y="35053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"/>
          <p:cNvPicPr/>
          <p:nvPr/>
        </p:nvPicPr>
        <p:blipFill>
          <a:blip r:embed="rId9"/>
          <a:stretch/>
        </p:blipFill>
        <p:spPr>
          <a:xfrm>
            <a:off x="4267080" y="3733920"/>
            <a:ext cx="1685880" cy="154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"/>
          <p:cNvPicPr/>
          <p:nvPr/>
        </p:nvPicPr>
        <p:blipFill>
          <a:blip r:embed="rId10"/>
          <a:stretch/>
        </p:blipFill>
        <p:spPr>
          <a:xfrm>
            <a:off x="7696080" y="3657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533520" y="4648320"/>
            <a:ext cx="1447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us esco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2590920" y="5410080"/>
            <a:ext cx="16761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4648320" y="49528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400800" y="48006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7848720" y="5334120"/>
            <a:ext cx="1143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1143000" y="6019920"/>
            <a:ext cx="7010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Verdana"/>
              </a:rPr>
              <a:t>Materiales Escola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960" y="731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II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 el adje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33360" y="1523880"/>
            <a:ext cx="1647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17161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434340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4"/>
          <a:stretch/>
        </p:blipFill>
        <p:spPr>
          <a:xfrm>
            <a:off x="670572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5"/>
          <a:stretch/>
        </p:blipFill>
        <p:spPr>
          <a:xfrm>
            <a:off x="380880" y="4446720"/>
            <a:ext cx="1524240" cy="149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6"/>
          <a:stretch/>
        </p:blipFill>
        <p:spPr>
          <a:xfrm>
            <a:off x="2378160" y="4267080"/>
            <a:ext cx="135576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7"/>
          <a:stretch/>
        </p:blipFill>
        <p:spPr>
          <a:xfrm>
            <a:off x="4390920" y="4419720"/>
            <a:ext cx="1857600" cy="1698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8"/>
          <a:stretch/>
        </p:blipFill>
        <p:spPr>
          <a:xfrm>
            <a:off x="6819840" y="4343400"/>
            <a:ext cx="1762200" cy="2114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695880" y="36115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F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666880" y="36115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u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4953960" y="36576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F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6323400" y="36115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uapa/Bon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306000" y="60498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287440" y="612612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ó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4714200" y="61261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s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7164360" y="62784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s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UNA FAMILIA L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cp:lastPrinted>2015-09-25T15:03:24Z</cp:lastPrinted>
  <dcterms:modified xsi:type="dcterms:W3CDTF">2015-09-25T19:21:30Z</dcterms:modified>
  <cp:revision>22</cp:revision>
  <dc:subject/>
  <dc:title>Me llamo _________         Clase 6NH/IL La fecha es el 16 de diciembre del 2010</dc:title>
</cp:coreProperties>
</file>